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2C8-1DE4-44A2-9D1D-F0F11338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887-8D84-4B8A-BAEF-E86C65B4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934-DF17-484E-AF40-7F1B8F9C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2A7-9ABA-4560-A3ED-6BF83678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315-6B0D-414B-98C4-1C2BB76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2B9-3139-4E60-B986-51A4CED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36C-389F-421D-8B87-A0C7D9AE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4D8-F24E-4961-93E1-8B3E303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559-C1DC-499C-9940-3C2EE76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B40-834C-4674-AFF9-E68B203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207-C8A7-4946-BA22-E5A0DC1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031-D9DC-48B1-93E4-FF3E345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F63-4EAE-4670-A743-5EA53AF4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6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Brion"/>
              </a:rPr>
              <a:t>Good Ole Moccas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62485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om's Headache"/>
              </a:rPr>
              <a:t>Designed and Written by Emily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25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25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I can't wait to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home and put on 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moccas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It's freezin' out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and there ain'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no fish bitin'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My bud Bob left 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cause he's comin'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with somethin', so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I'm out here by my loneso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9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9984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K Wild n Crazy"/>
              </a:rPr>
              <a:t>Hopefully my wife will have supper read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K Wild n Crazy"/>
              </a:rPr>
              <a:t>by the time I git h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K Wild n Crazy"/>
              </a:rPr>
              <a:t>which reminds me, I gotta cook that deer me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65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75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52880" y="1522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hipper"/>
              </a:rPr>
              <a:t>I don't know what I'm gonna do tomor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hipper"/>
              </a:rPr>
              <a:t>Since retirement, I don't have nothin' to do all day, every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hipper"/>
              </a:rPr>
              <a:t>And my wife's always hollerin' at me about sittin' at home all the time, always naggin' me.</a:t>
            </a:r>
            <a:r>
              <a:rPr b="0" lang="en-US" sz="3600" spc="-1" strike="noStrike">
                <a:solidFill>
                  <a:srgbClr val="000000"/>
                </a:solidFill>
                <a:latin typeface="Chipp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9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51804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Jeff"/>
              </a:rPr>
              <a:t>Man, I think my feet are solid 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Jeff"/>
              </a:rPr>
              <a:t>Can't wait to put on my fleece lined mocs.</a:t>
            </a:r>
            <a:r>
              <a:rPr b="0" lang="en-US" sz="1800" spc="-1" strike="noStrike">
                <a:solidFill>
                  <a:srgbClr val="000000"/>
                </a:solidFill>
                <a:latin typeface="CK Freezing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579400">
            <a:off x="933480" y="121824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rdlak"/>
              </a:rPr>
              <a:t>Well, look's like my worms are g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800600" cy="322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100400">
            <a:off x="4710600" y="236196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rdlak"/>
              </a:rPr>
              <a:t>Better luck next time I gu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2:20:59Z</dcterms:created>
  <dc:creator>Terese Toth</dc:creator>
  <dc:description/>
  <dc:language>en-US</dc:language>
  <cp:lastModifiedBy>Terese Toth</cp:lastModifiedBy>
  <dcterms:modified xsi:type="dcterms:W3CDTF">2008-02-27T03:49:10Z</dcterms:modified>
  <cp:revision>3</cp:revision>
  <dc:subject/>
  <dc:title>Good Ole Moccasins</dc:title>
</cp:coreProperties>
</file>